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828B-C629-4CA7-9BCF-8F8BF197700B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BCEC-3939-43B0-BD51-9575AB3C1397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F52-87B2-4250-A6FA-05D1AD6B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4B5-39C9-44BB-BEE6-9B85B0B1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F9C-8DC3-46E1-9AF7-4CAC3D3D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59E-8B99-47AA-B576-1E769CB7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14C4-BFB4-4620-82D9-6D6483D1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19BE-2A30-4015-A731-12DB4BD7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7A09-22B1-472E-B75D-7F521B2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90DC-1722-4C9E-BF11-2162EA06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851E-C29B-424C-87FF-921BC10C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988B-C2BB-4BCC-839C-04266CE2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5CE4-2AB8-4955-ACB4-C9805359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957-399B-48FC-975E-0234EB97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9A88-D97A-4E4C-8130-01130E91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3964-24F7-4ECC-BA3D-9674895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D894-E7CC-4995-B40C-9FE22EC4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C044-E63A-41C6-BE16-706BCCA1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21C-2C73-47AA-A74F-D3D1E8EE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F1C-FE95-4805-BDAA-EE5EBC3B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A5B-352F-45E6-93B8-24B0EC31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D46-BFB5-48ED-99F9-F338D1A3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F8C-4586-40A7-997C-09A607E1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2A4-A36D-495E-A583-E09206A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D82-C584-4968-BC40-4277A05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619-638C-4192-8A01-0753A90A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1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2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91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892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893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94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895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896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897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898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899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900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901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902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903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904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CD9A-5FDF-4C86-B859-FD09CB727BA0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9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2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4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904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12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92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893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89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89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9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89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9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89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90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90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90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90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FAC7-B953-43CF-A0C3-442B1C7F5DE7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oreme.com/bm/fr_collection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 1.1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th newydd o hysbysebu’n uniongyrchol i’ch cyfrifiadur – doniol neu anweddu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Os ydych yn hoffi cynnwys yr hysbyseb, rydych yn debygol o’i hanfon at ffrin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Yna mae’n troi’n hysbyseb “tafod lleferydd”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ynnyrch sy’n cael ei argymell yn bersono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 hysbysebu feiral yn croesi ffiniau rhyngwladol mewn ffracsiwn o eilia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n nhw’n defnyddio a gwyrdroi cysyniadau o genre, yn chwarae gyda’n rhagdybiaethau o werthoedd sefydliado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n nhw’n cynnwys y gynulleidfa yn y broses o gynhyrchu, dosbarthu, defnyddio a hyrwyddo hysbysebu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’n ffordd i mewn i’n byd heb orfod talu’r costau trawsyrru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Gallwch anfon neges heb orfod talu’r negesyd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’r cwmnïau gyda’r cynhyrchion sy’n cael eu hysbysebu’n aml yn gwadu’r hysbysebion hy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 hyn yn ei dro’n gwneud y math o hysbysebu’n fwy deniadol i gynulleidfa – hysbysebu is-feir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hai gwefannau defnyddio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oreme.co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Film.co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atmail.tv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ydd gan y rhain hefyd ddolenni defnyddiol i enghreifftiau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981080" y="2286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4876c"/>
                </a:solidFill>
                <a:uFillTx/>
                <a:latin typeface="Times New Roman"/>
                <a:hlinkClick r:id="rId1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1:59:58Z</dcterms:created>
  <dc:creator>Castell Alun HS</dc:creator>
  <dc:description/>
  <dc:language>en-US</dc:language>
  <cp:lastModifiedBy>TimData</cp:lastModifiedBy>
  <dcterms:modified xsi:type="dcterms:W3CDTF">2015-05-06T18:22:41Z</dcterms:modified>
  <cp:revision>6</cp:revision>
  <dc:subject/>
  <dc:title>Viral Advertising</dc:title>
</cp:coreProperties>
</file>